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319-6EC7-4557-A371-184C87ED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512-B0A3-48E4-BCB4-592B67A9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483-A693-4E47-A647-B385356F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CDC-742E-4515-9F17-82DF56DB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57D1-855D-428F-A1A1-E9E12261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3BD2-7C61-43E7-9378-79955CF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DF21-8845-45F4-B2AF-845D30BA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AE3A-7FDA-4777-80EB-F6A196E5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93D2-0F23-4C0B-930E-1DB9D955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061-1C6E-453F-B857-A695898A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EB12-B21C-48AC-81CF-7E2099FD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EAE-A7A9-4E0D-BD62-971B1010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A3EA-A7AC-464D-A042-C1F2C37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1188-3588-407F-A9AD-705C515E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7848-EF86-4CC3-BEAC-33104B17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A273-45A7-436B-A82A-FE5B34B3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16AF-5A9C-4EED-B84E-E5090EB4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C2CF-B869-4FA0-8A75-3F23F935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48046-7859-48D2-AD11-53B08906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54C3-5858-4715-B065-BA9194E0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EBE4B-19F9-482A-8595-A80B5A5C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9F37-9BDE-4A59-B945-3B37701A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662-ECBB-4B5B-88D5-0B06F660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3BCF-5058-4E9F-A3B4-7E51EF3A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6FE3-6592-4CA4-B28C-7AAB6475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BD4C-F3F3-42FD-B3C0-93CC7324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E6983-7622-4176-A4E3-E6758278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265A-473C-4B37-B194-37FFF1D4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D172-4B90-462E-BF93-6D802158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9F83-AB8A-4DB6-9988-F46577B2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AC50-B7E4-455A-91A5-EF5C433C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AF2B-1C06-432D-BE21-37CAB2F4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0257D-A587-47C9-A2F7-0D701AFB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560-780A-4129-86CA-E8A365E2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910F-359E-4427-BE97-00870AB6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5115-3B38-4860-AB2D-B04FE026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C484-7608-43A2-8890-EEBDBB04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E7D9-DE26-4BB0-AD9D-FE0064B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D7001-2FA7-4AEB-A6BC-4643C905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0714-F77C-4AFC-96C5-6171EFC9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C2D01-6E93-4D7A-BA7F-4BE89E19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D919-67CC-4C0D-8F57-0E3CB03E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4511-5047-401C-94E8-A9A6BA02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B4713-BE4F-499C-9B1D-81B3B1F8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D20-3F64-41AA-B0EE-3BB5D86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7A9D6-2CF9-489F-ABC5-BD04C62B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23F70-82B9-46B6-BA1D-0CD215CA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94AF-CB01-4D38-A535-CC6A7B6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ADEF-54F2-4AD0-96EF-30ECC20B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FEA80-3CA8-418E-BB47-D60332A7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F3BF9-16E4-4AAD-A56B-6E96F25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1A73A-255F-4F82-B29A-2283580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18647-6BD3-47A4-87EB-D92E7AF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EDC37-3923-429C-93E7-2FF975EE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10AEE-9F59-4227-967F-1DBD06E0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CFF-E275-4F83-966E-CA30818A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AD3B-3AD0-4B72-8EFE-FB46E147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AD71-3400-4D91-862D-778D79EC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7BF6-716D-434F-890B-E7C584AC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08B5F-531A-488A-8CEE-99673BBD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DB55-7060-430C-B59E-A044E61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B106E-3748-4548-913B-2A903103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07F5-4EF8-4FA9-A517-D8C555B1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5D61C-DFE7-41B3-8CBD-93C86C8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10231-7B37-49CD-A32E-4C576D21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F2112-A9A3-4588-86DF-AB05F998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AC7-1C39-49D9-BA9E-829FE692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EF09D-FA4C-4F7A-A4A5-23978E25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AF17F-8334-43EC-BEB5-B93A45E2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2911C-A2EE-45DF-972D-64B77C01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DEC55-6712-4FFA-81C0-630B5F06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FFE53-A3DF-4009-A6B5-6138F3D7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8F5A5-A857-4971-BA1C-663D76FC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E9807-D0D8-4DCD-A91A-C72275A3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806D0-6DEA-457C-B190-8C8D95DC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EDF3-D2BC-4009-B99F-25CD5586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26477-5561-49BC-AC95-FF934A3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70F-D9BB-4A8A-8C6A-F5FCE97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E1513-29CA-496F-8E21-36021F0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2B47-37F6-48D9-A081-CE7A615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73514-2393-4927-B79C-586600B9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2093-7DAD-401B-832E-4A89F3C4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EA739-43CA-4D84-A232-A0B4B4A8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455-0AA2-4336-B6B5-064C3547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C590-B4FA-4314-B817-4CBC1CAF8F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6DB9-379A-41ED-A780-92A366EBDB8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8F54-7CB1-46AA-B12D-02137EC86D4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DFD9-8C38-4CF4-8852-722B2469E2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C7B3-ADC3-41C8-BAB4-9045ADC5AA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73D8-DA7F-4CA0-AA81-5C410B418AC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6B03-2E4E-4569-925E-E0A6BDA2B73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36640" y="24382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sessment Bluepri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mplica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fforts at remediation and enhancement can be more target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allows teachers to build more rigor into their assessmen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can lead to increases in student achievement on state assessmen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itewater MS Social Stud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% Differ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1  1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Did Not Mee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2  67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% decrease in Mee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3  15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Exceed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1  1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Did Not Mee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2  71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% decrease in Mee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3  1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Exceed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1  18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Did Not Mee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2  67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 decrease in Mee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3  14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1%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Exceed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eren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tar, C. , et. al. (2004). The table of specifications: Insuring accountability in teacher made tests.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Journal of Instructional Psycholog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, 31(2),115-128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uskey, T. R. (2005, November). Mapping the road to proficiency.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Educational Leadership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, pp. 207-215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ssessment in the Standards-based Classroo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role of assessment in a standards-based classroo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can I insure that my assessments are aligned with standard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Role of Assess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a standards-based classroom, the role of assessment is to inform teachers and students about the student’s journey toward mastery of the standar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teachers, assessment results guide instruc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students, assessment results guide lear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ligning Assessments with Standard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achers should begin with the end in mind by establishing what evidence of learning looks lik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ce teachers determine evidence of learning, they can design their assessments using a blueprint to insure the assessment addresses all standards and elements at the appropriate cognitive lev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sessment Bluepri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known as a table of specif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tool to link assessments to stand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tool to link instructional activities to stand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s precision and clarity to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arifies learning goals to stu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creases content validity of teacher-developed assess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sessment Bluepri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ckward design – design the blueprint before developing assessments and instructional activ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s for evaluation of alignment in existing assess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s teachers to reflect upon the cognitive level of the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sts teachers in writing assessment items and tasks that tap different levels of cognitive complex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ssessment Blueprint Examples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(based on Bloom’s Taxonomy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434960" y="2133720"/>
          <a:ext cx="7499520" cy="39621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gnitive level of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estions that align with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gnitive level of the qu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1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: Ap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43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1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 7,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: compreh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: analy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1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2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 4,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P2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: analy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 ap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usters with lay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ems that assess the same standard are clustered toge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first items in the cluster typically address prerequisite knowledge (recall, basic comprehension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maining items are designed to assess more rigorous knowledge (application, analysis, evaluation, synthesi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tem Analysi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ows for the assessment to become more diagnost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hows areas where students may need more assistance (Prerequisite knowledge may be there, but students cannot apply it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dentifies those standards/elements where corrective teaching is needed or instruction needs to be redesign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4:19:21Z</dcterms:created>
  <dc:creator>turner.julie</dc:creator>
  <dc:description/>
  <dc:language>en-US</dc:language>
  <cp:lastModifiedBy>fcboe</cp:lastModifiedBy>
  <dcterms:modified xsi:type="dcterms:W3CDTF">2011-03-07T20:34:58Z</dcterms:modified>
  <cp:revision>23</cp:revision>
  <dc:subject/>
  <dc:title>Testing Blueprints</dc:title>
</cp:coreProperties>
</file>